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jpeg" ContentType="image/jpeg"/>
  <Override PartName="/ppt/media/image12.png" ContentType="image/png"/>
  <Override PartName="/ppt/media/image7.wmf" ContentType="image/x-wmf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955-6254-40CC-BB31-4CA49210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0E8-3047-4989-9B1A-180179BE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050-FFFE-4514-AC0F-73BA6431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9E7-C9F2-4F1A-A780-0CAEC09A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DA01-CABF-4E30-8CF8-36327A79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D57D-8A3C-433F-A3DB-F61D522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BFC-2A51-4F8F-807B-78B5EF4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79B-A845-4211-A0F5-2BCDCD42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76F3-A717-4E9F-9ABB-010B626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4570-544A-4CCD-AFA1-764D04A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084-4F42-47A0-A307-D6C98F9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495-CA16-45FA-AC0E-F03F752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0CB3-4873-42D0-9E42-8929BD1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1423-E6DA-4EE7-842F-ADC8C28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598B-063F-47D0-B148-98FB9F40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7B0B-A3A0-478F-ABBF-3D5E5468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B876-DCA4-47B6-81D5-D6C1290D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46B-9038-4BC7-9266-0DDC3B4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0F3-D162-45ED-9B7A-966AABE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50D-010A-465F-BA5E-53C8B85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EAA-1074-436C-AB6F-0B9E242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D78-27CC-4369-930A-22AC24C2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9B4-2A41-4F3D-ADD5-9CE23326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626-227A-4111-BCB8-A9C4D2B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A45-1DDC-491F-B757-B6FE301614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AF3-94E6-4E26-9DF3-F6DE604417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uZetian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XqHR1uAc_-Q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Starting Promp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elements of a golden age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 elements found in collapsing civilizatio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od Block Printing – 7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 – 40,000 Chinese characters – easier to carve only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canonic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Buddhist tex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ater Confucius wri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cholar-gent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replaced landed aristocracy as political and economic el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able Type introduced in 105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705720" y="4343400"/>
            <a:ext cx="1616040" cy="1465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amond Sutra, earliest printed text - 8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9" descr="diamond_sutra_fronti"/>
          <p:cNvPicPr/>
          <p:nvPr/>
        </p:nvPicPr>
        <p:blipFill>
          <a:blip r:embed="rId1"/>
          <a:stretch/>
        </p:blipFill>
        <p:spPr>
          <a:xfrm>
            <a:off x="1981080" y="4191120"/>
            <a:ext cx="4419720" cy="26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History of Chinese Invention and Discovery"/>
          <p:cNvPicPr/>
          <p:nvPr/>
        </p:nvPicPr>
        <p:blipFill>
          <a:blip r:embed="rId2"/>
          <a:stretch/>
        </p:blipFill>
        <p:spPr>
          <a:xfrm>
            <a:off x="7086600" y="152280"/>
            <a:ext cx="18194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vil service exam reintroduced - will be used for next 1300 yrs (covered names, printed so never knew test taker) -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meritoc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d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land-equalization system 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istributing land based on size of house-hold – strengthen central govt., weakened power of large land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main exports of China come into vogue –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ea, silk, and porcel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Technolo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el introduced (mixing cast iron and wrought iron in fire) for s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tton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unpow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explosives and primitive flamethrowers (40 yrds) made of saltpeter, sulfur and charco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chanical Clocks (learned water-powered clocks from Middle Eastern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fire"/>
          <p:cNvPicPr/>
          <p:nvPr/>
        </p:nvPicPr>
        <p:blipFill>
          <a:blip r:embed="rId1"/>
          <a:stretch/>
        </p:blipFill>
        <p:spPr>
          <a:xfrm>
            <a:off x="4952880" y="2057400"/>
            <a:ext cx="33242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Intellectual/Tech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i’s Grand Ca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ng’s City of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hang’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astern most city of Silk Road – wealthiest in worl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304920" y="3200400"/>
            <a:ext cx="5105160" cy="3882240"/>
            <a:chOff x="304920" y="3200400"/>
            <a:chExt cx="5105160" cy="388224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tretch/>
          </p:blipFill>
          <p:spPr>
            <a:xfrm>
              <a:off x="418680" y="3200400"/>
              <a:ext cx="4991400" cy="36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 rot="16200000">
              <a:off x="-1114560" y="5348160"/>
              <a:ext cx="31539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Picture 7" descr="mch07_06"/>
          <p:cNvPicPr/>
          <p:nvPr/>
        </p:nvPicPr>
        <p:blipFill>
          <a:blip r:embed="rId2"/>
          <a:stretch/>
        </p:blipFill>
        <p:spPr>
          <a:xfrm>
            <a:off x="5867280" y="152280"/>
            <a:ext cx="2895840" cy="704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732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lk Ro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640" y="5562720"/>
            <a:ext cx="5300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ian = Chang-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" descr="http://www.absolutechinatours.com/UploadFiles/ImageBase/maritimesilkroad.gif"/>
          <p:cNvPicPr/>
          <p:nvPr/>
        </p:nvPicPr>
        <p:blipFill>
          <a:blip r:embed="rId1"/>
          <a:stretch/>
        </p:blipFill>
        <p:spPr>
          <a:xfrm>
            <a:off x="457200" y="1154160"/>
            <a:ext cx="7832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6 Regents - Themat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00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255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895480" cy="380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343400" y="2849400"/>
            <a:ext cx="3400560" cy="1951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4800600" y="533520"/>
            <a:ext cx="2943360" cy="838080"/>
          </a:xfrm>
          <a:prstGeom prst="rect">
            <a:avLst/>
          </a:prstGeom>
          <a:solidFill>
            <a:srgbClr val="7030a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nuary 2017 Reg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Ta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ness of Tang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mpire expanded beyond effective commun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control (provincial governors rebelled), as wealth increased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rruption and intrig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unuch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rolled access to emperors, became policy makers), expanded bureaurcacy led to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creased tax and peasant revol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land given to rich landlor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Image:Tang dynasty1.PNG"/>
          <p:cNvPicPr/>
          <p:nvPr/>
        </p:nvPicPr>
        <p:blipFill>
          <a:blip r:embed="rId1"/>
          <a:stretch/>
        </p:blipFill>
        <p:spPr>
          <a:xfrm>
            <a:off x="5029200" y="1752480"/>
            <a:ext cx="40384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Ta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56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mpress Wu (690-7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ly woman to rule China as independent sovere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ubine of emperor Gao-zong – used her power to place relatives in key positions, owed loyalty to her when he 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osed in her 80s by aristocratic reaction to her excesses and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potism (favoritism to relati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arded as evil villain – but not really bad ru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5" descr="250px-WuZet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057400"/>
            <a:ext cx="2816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Asian World 400-150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– Mongols – Early Japan/Korea – India – Southeast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t too lavishly (one emperor kept 100s of dancers and musicians to entertain his mistr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b army defeats Chinese in east in 751 (Chinese prisoners teach Arabs how to make pap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sant uprisings break China into 10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ually turn against Buddhist who had amassed great weal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eign Inva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80880" y="274320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entury – Khitan (northern nomadic people) caused collapse (used classic strategy of “barbarians to oppose barbarians” – hired Turkish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Uighu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protect Silk Road, but Kirghis [another nomadic group] defeated Uighurs and then turned on Ta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What do we know about mercenari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Content Placeholder 5" descr="Image:Premongol copy.png"/>
          <p:cNvPicPr/>
          <p:nvPr/>
        </p:nvPicPr>
        <p:blipFill>
          <a:blip r:embed="rId1"/>
          <a:stretch/>
        </p:blipFill>
        <p:spPr>
          <a:xfrm>
            <a:off x="4643280" y="2346480"/>
            <a:ext cx="39243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ng Dynasty (960-1275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conomic Prosper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on &amp; Steel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aper Curr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roduc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terest in trade – colonies in SE Asia, larger ships (600 people plus cargo) w/multiple masts,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ompa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eo-Confuci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vival of Confucian thought, now mixed with Daoism &amp; Buddhism.  - stressed importance of observation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ig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sungfdr"/>
          <p:cNvPicPr/>
          <p:nvPr/>
        </p:nvPicPr>
        <p:blipFill>
          <a:blip r:embed="rId1"/>
          <a:stretch/>
        </p:blipFill>
        <p:spPr>
          <a:xfrm>
            <a:off x="5334120" y="1676520"/>
            <a:ext cx="3362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So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rthern Song (960 to 112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ied northern China (except nomadic Khitan), moved capital east to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aif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where Grand Canal w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threat from Central Eurasian noma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1xarsong"/>
          <p:cNvPicPr/>
          <p:nvPr/>
        </p:nvPicPr>
        <p:blipFill>
          <a:blip r:embed="rId1"/>
          <a:stretch/>
        </p:blipFill>
        <p:spPr>
          <a:xfrm>
            <a:off x="3809880" y="1295280"/>
            <a:ext cx="5838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edieval China – Politics (Song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uthern Song (1127 to 127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madic pressures – forced to move capital south to Hangzhou on coast of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Yangt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st control of Tib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conomic expa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reased pop. to 40 m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ng rulers forced to pay tribute to foreigners (Jurchen/Jin in Manchur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2920" y="396216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1xarsong"/>
          <p:cNvPicPr/>
          <p:nvPr/>
        </p:nvPicPr>
        <p:blipFill>
          <a:blip r:embed="rId1"/>
          <a:stretch/>
        </p:blipFill>
        <p:spPr>
          <a:xfrm>
            <a:off x="4572000" y="1676520"/>
            <a:ext cx="4924440" cy="4233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42920" y="1752120"/>
            <a:ext cx="3924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achievements are most closely associated with the Tang and Song dynasties of Chin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wheel and stirr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chinampas and calend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gunpowder and movable wooden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mosaics and do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inese Wo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er position in Tang than in later dynasti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wries provided to men, women did not own anyth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Footbind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d to show subordinate position (lily-shaped foot sign of beauty) – also sign of no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otbi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footpic.gif (88129 bytes)"/>
          <p:cNvPicPr/>
          <p:nvPr/>
        </p:nvPicPr>
        <p:blipFill>
          <a:blip r:embed="rId1"/>
          <a:stretch/>
        </p:blipFill>
        <p:spPr>
          <a:xfrm>
            <a:off x="5334120" y="457200"/>
            <a:ext cx="3429000" cy="2314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61760" y="3276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girls anywhere from the age of four to six before arch develop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smallest toes on each foot were brok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k bandages, ten feet long and two inches wide, were wrapped around the smallest toes and pulled tightly to the heel. Every two days, the binding was removed and rebou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3 years foot basically died causing great stenches and sometimes led to death of child through inf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rohibited later during Manchu dynasty still continued and still found in countryside tod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footbinding"/>
          <p:cNvPicPr/>
          <p:nvPr/>
        </p:nvPicPr>
        <p:blipFill>
          <a:blip r:embed="rId1"/>
          <a:stretch/>
        </p:blipFill>
        <p:spPr>
          <a:xfrm>
            <a:off x="152280" y="228600"/>
            <a:ext cx="4572000" cy="453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artc"/>
          <p:cNvPicPr/>
          <p:nvPr/>
        </p:nvPicPr>
        <p:blipFill>
          <a:blip r:embed="rId2"/>
          <a:stretch/>
        </p:blipFill>
        <p:spPr>
          <a:xfrm>
            <a:off x="4724280" y="3276720"/>
            <a:ext cx="39625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rs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entury Eur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https://s3-eu-west-1.amazonaws.com/3tags-prod/article/54f06aad44e3b/54f06aad4a3d4/original.png"/>
          <p:cNvPicPr/>
          <p:nvPr/>
        </p:nvPicPr>
        <p:blipFill>
          <a:blip r:embed="rId1"/>
          <a:stretch/>
        </p:blipFill>
        <p:spPr>
          <a:xfrm>
            <a:off x="797040" y="3395520"/>
            <a:ext cx="4182840" cy="269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www.trashydiva.com/Image/Brooke-Corset%20Blog-17thcenturycorsets.jpeg"/>
          <p:cNvPicPr/>
          <p:nvPr/>
        </p:nvPicPr>
        <p:blipFill>
          <a:blip r:embed="rId2"/>
          <a:stretch/>
        </p:blipFill>
        <p:spPr>
          <a:xfrm>
            <a:off x="5334120" y="1420920"/>
            <a:ext cx="3376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arly China (a reminder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hou Dynasty (1030-771 BC) – utilized the “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Mandate of Heaven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” to overthrow Shang Dynasty set up a feudal system, made first books, calendar, sil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Emperor Qin (221 BC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Created First Empire, began Great Wall, built royal tomb, unified Chinese calligraphy, standardized system of weights and measurements, coined money (circular w/square hole – to keep on string for protection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n Dynasty (202 BC – 22- AD– eased the harsh policies of Qin and reduced taxes – would last 400 yrs.  Best known – Wudi who made </a:t>
            </a:r>
            <a:r>
              <a:rPr b="0" lang="en-US" sz="1900" spc="-1" strike="noStrike">
                <a:solidFill>
                  <a:srgbClr val="0000ff"/>
                </a:solidFill>
                <a:latin typeface="Verdana"/>
              </a:rPr>
              <a:t>civil service syste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based on Confucius.  Made 1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paper, acupuncture, anesthesia, used Silk Road for lucrative Silk trade with Roman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chanpina"/>
          <p:cNvPicPr/>
          <p:nvPr/>
        </p:nvPicPr>
        <p:blipFill>
          <a:blip r:embed="rId1"/>
          <a:stretch/>
        </p:blipFill>
        <p:spPr>
          <a:xfrm>
            <a:off x="7391520" y="228600"/>
            <a:ext cx="1466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440" y="526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Jan. 20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825640" y="533520"/>
            <a:ext cx="6048360" cy="3562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765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5445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 will take over 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astori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ople from Mongolia.  Organized into cl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map"/>
          <p:cNvPicPr/>
          <p:nvPr/>
        </p:nvPicPr>
        <p:blipFill>
          <a:blip r:embed="rId1"/>
          <a:stretch/>
        </p:blipFill>
        <p:spPr>
          <a:xfrm>
            <a:off x="3048120" y="2743200"/>
            <a:ext cx="5410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ents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824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th the Ancient Romans and the Ancient Chinese viewed foreigners as barbarians. This is an example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 materi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ri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hnocentr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ltural diffu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tch07_03"/>
          <p:cNvPicPr/>
          <p:nvPr/>
        </p:nvPicPr>
        <p:blipFill>
          <a:blip r:embed="rId1"/>
          <a:stretch/>
        </p:blipFill>
        <p:spPr>
          <a:xfrm>
            <a:off x="5087880" y="0"/>
            <a:ext cx="4056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>
            <a:hlinkClick r:id="rId2"/>
          </p:cNvPr>
          <p:cNvSpPr/>
          <p:nvPr/>
        </p:nvSpPr>
        <p:spPr>
          <a:xfrm>
            <a:off x="42670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Rectangle 1" descr=""/>
          <p:cNvPicPr/>
          <p:nvPr/>
        </p:nvPicPr>
        <p:blipFill>
          <a:blip r:embed="rId3"/>
          <a:stretch/>
        </p:blipFill>
        <p:spPr>
          <a:xfrm>
            <a:off x="384120" y="2736720"/>
            <a:ext cx="344484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china-mike.com/wp-content/uploads/2011/01/grand-canal-map.jpg"/>
          <p:cNvPicPr/>
          <p:nvPr/>
        </p:nvPicPr>
        <p:blipFill>
          <a:blip r:embed="rId1"/>
          <a:stretch/>
        </p:blipFill>
        <p:spPr>
          <a:xfrm>
            <a:off x="5140440" y="1770120"/>
            <a:ext cx="3470040" cy="4711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i Dynasty (581-617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386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united China after barbarian inva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olidated empire w/state-suppor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uddhis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wo-tier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ureaucrac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uc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rand Ca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tw. Yangtze &amp; Yellow – longest man-made waterway in history (1200 m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atives – used forced labor, high taxes, military failures (Shortest Lived Dynas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9" descr="xyunhe1"/>
          <p:cNvPicPr/>
          <p:nvPr/>
        </p:nvPicPr>
        <p:blipFill>
          <a:blip r:embed="rId2"/>
          <a:stretch/>
        </p:blipFill>
        <p:spPr>
          <a:xfrm>
            <a:off x="5140440" y="1828800"/>
            <a:ext cx="3622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ng Dynast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618-907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e Builders (Celestial Empire) – conquered territories deep into Central Asia (88 Asian peoples controlled by Tang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Vietnam, Tibet &amp; Korea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tributary st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although independent had to pay tribute to Ch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lden Age of Culture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i Ba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famous poet),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wood block printing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ss (from India), playing c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Image:Tang dynasty1.PNG"/>
          <p:cNvPicPr/>
          <p:nvPr/>
        </p:nvPicPr>
        <p:blipFill>
          <a:blip r:embed="rId1"/>
          <a:stretch/>
        </p:blipFill>
        <p:spPr>
          <a:xfrm>
            <a:off x="4876920" y="380880"/>
            <a:ext cx="3924360" cy="346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upload.wikimedia.org/wikipedia/commons/thumb/8/88/Ming_Dynasty_playing_card%2C_c._1400.jpg/160px-Ming_Dynasty_playing_card%2C_c._1400.jpg"/>
          <p:cNvPicPr/>
          <p:nvPr/>
        </p:nvPicPr>
        <p:blipFill>
          <a:blip r:embed="rId2"/>
          <a:stretch/>
        </p:blipFill>
        <p:spPr>
          <a:xfrm>
            <a:off x="4648320" y="2514600"/>
            <a:ext cx="1523880" cy="4133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6178680" y="4952880"/>
            <a:ext cx="2666880" cy="1447920"/>
          </a:xfrm>
          <a:prstGeom prst="rect">
            <a:avLst/>
          </a:prstGeom>
          <a:solidFill>
            <a:srgbClr val="0000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rliest Playing Card – first known game was “Leaf Game” dated to 868 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 Bai (Li Bo) – 8</a:t>
            </a:r>
            <a:r>
              <a:rPr b="0" lang="en-US" sz="3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c. Daoist Poet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mongst the flowers is a pot of wine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I pour alone but with no friend at hand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So I lift the cup to invite the shining moon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long with my shadow, a fellowship of three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moon understands not the art of drink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shadow gingerly follows my movements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Still I make the moon and the shadow my company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o enjoy the springtime before too late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moon lingers while I am sing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he shadow scatters while I am dancing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We share the cheers of delight when sober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We separate our ways after getting drunk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Forever will we keep this unfettered friendship;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Til we meet again far in the Milky Way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Dancing_under_the_moon_by_WitchChild93"/>
          <p:cNvPicPr/>
          <p:nvPr/>
        </p:nvPicPr>
        <p:blipFill>
          <a:blip r:embed="rId1"/>
          <a:stretch/>
        </p:blipFill>
        <p:spPr>
          <a:xfrm>
            <a:off x="6286680" y="3429000"/>
            <a:ext cx="28573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609480" y="5638680"/>
            <a:ext cx="5257800" cy="1219320"/>
          </a:xfrm>
          <a:prstGeom prst="rect">
            <a:avLst/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oss – Curricular – What poetic devices can you spot in this poem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09:21Z</dcterms:created>
  <dc:creator>Lyons, Anne</dc:creator>
  <dc:description/>
  <dc:language>en-US</dc:language>
  <cp:lastModifiedBy>Windows User</cp:lastModifiedBy>
  <dcterms:modified xsi:type="dcterms:W3CDTF">2017-02-27T12:18:58Z</dcterms:modified>
  <cp:revision>119</cp:revision>
  <dc:subject/>
  <dc:title>The Asian World 400-1500</dc:title>
</cp:coreProperties>
</file>